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7DB-4DF2-4519-A26F-1998B8B9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626-9129-4B01-80AF-9138252C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913-FBED-4CDF-A8F2-53870DC6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731-4116-4D5B-94A6-64DBC7A5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28B-4633-4199-9C97-B94C3543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85F-BD7E-4E95-AE88-F7A7337A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E78-4D01-4B87-94AA-C42EBFDA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50A-2DA8-4BA9-8DCF-85E56C69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074-D083-46D7-849C-A217F762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D25-D7D5-40DA-B485-A1E3C4B6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CB2-CE30-4206-AFAD-5B7CCD4E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CE4-E78E-4DBC-B6A5-646F9033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007D-94A5-4B0D-8076-04C8C9807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Student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sing appropriate intervention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medial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fer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a Trai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C @ Mohawk Aven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3 teachers- 8:30 to 11:3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Grade 4 teachers,12:30 to 3: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5 teachers-9:00 to noon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Grade 6,7,8 (math &amp; LAL teach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) 1:00-4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8:30-noon, Learnia Lead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9 – Oc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 Tes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ar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ative assessment system empowers educators with periodic information (Oct/Feb)on the progress of students toward acquiring the skills and knowledge that will be assessed on the NJ AS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C83F-74DF-4160-B02B-C0074C23B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 – 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a Supports Your Instruction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data that can be integrated into the instruction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for differentiated planning and i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student progress toward proficiency on NJ CC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nal3"/>
          <p:cNvPicPr/>
          <p:nvPr/>
        </p:nvPicPr>
        <p:blipFill>
          <a:blip r:embed="rId1"/>
          <a:stretch/>
        </p:blipFill>
        <p:spPr>
          <a:xfrm>
            <a:off x="496800" y="114480"/>
            <a:ext cx="7631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33520" y="45720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arnia web-based system provides information about the strengths and weaknesses of individual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potential gap in student pro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student who has already mastered grade leve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nal12"/>
          <p:cNvPicPr/>
          <p:nvPr/>
        </p:nvPicPr>
        <p:blipFill>
          <a:blip r:embed="rId1"/>
          <a:stretch/>
        </p:blipFill>
        <p:spPr>
          <a:xfrm>
            <a:off x="304920" y="228600"/>
            <a:ext cx="798336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2 – Remedial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s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 the Math/Marilyn Bur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sensory 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 – Students who have been experiencing difficulty with acquiring grade level skills will be monitored through the I&amp;RS process.  Students who continue to experience difficulty acquiring grade level skills after participating in a remedial math and/or reading program, would be recommended for the referral process by the I&amp;RS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1: Octo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ults used to set learning goal for Decem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Students who achieve goal should set new, higher level goal.  Students who do not achieve goal should be screened for leve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2:  Decem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Februar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uary-Take Learnia form 2.  Students who have not demonstrated progress will proceed to level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3:  Februar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Student intervention data shared with I&amp;RS for refer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2:49:07Z</dcterms:created>
  <dc:creator>Sparta</dc:creator>
  <dc:description/>
  <dc:language>en-US</dc:language>
  <cp:lastModifiedBy>Sparta</cp:lastModifiedBy>
  <dcterms:modified xsi:type="dcterms:W3CDTF">2008-09-09T15:40:54Z</dcterms:modified>
  <cp:revision>35</cp:revision>
  <dc:subject/>
  <dc:title>Formative Assessment to Identify Student Needs</dc:title>
</cp:coreProperties>
</file>