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AEADE-7A5A-4A90-A5B9-3FE6AE253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CFC4-2A2A-4D69-9CEA-1FFCA336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2AEC7-EBF5-4D67-99F1-C1B926C5F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4D5C-7DF2-4EB5-89E4-236BA0925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EA07-E4FA-4842-97D4-5CF5D8D9E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20DD-6410-457F-86C0-4BF710A16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712-329A-45E4-8A3E-09C1CCA18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AF6A-E069-4A83-AF1E-7B916DAD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A55-BE1D-4460-AB36-9093B8B8E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A8EE-A955-4A65-BE87-5A8336F5A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B847-EA95-4CB4-88BB-B4D7A03BC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7345-DB9D-4C24-9FF4-1E8B31068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3AB42-E2FB-4AB9-A579-31F27BAD23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eeting Student Nee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8580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8989"/>
                </a:solidFill>
                <a:latin typeface="Calibri"/>
              </a:rPr>
              <a:t>Using appropriate interventions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medial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eferr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Learnia Training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DC @ Mohawk Avenu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8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3 teachers- 8:30 to 11:3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Grade 4 teachers,12:30 to 3:3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19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Grade 5 teachers-9:00 to noon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Grade 6,7,8 (math &amp; LAL teacher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) 1:00-4: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  8:30-noon, Learnia Leader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i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pt. 29 – Oct 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:  Test windo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arn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Learn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formative assessment system empowers educators with periodic information (Oct/Feb)on the progress of students toward acquiring the skills and knowledge that will be assessed on the NJ ASK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D277-656F-4519-8E97-427C9C0927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vel 1 – Differentiated I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arnia Supports Your Instruction b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viding data that can be integrated into the instructional proc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owing for differentiated planning and instruc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itoring student progress toward proficiency on NJ CCC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final3"/>
          <p:cNvPicPr/>
          <p:nvPr/>
        </p:nvPicPr>
        <p:blipFill>
          <a:blip r:embed="rId1"/>
          <a:stretch/>
        </p:blipFill>
        <p:spPr>
          <a:xfrm>
            <a:off x="496800" y="114480"/>
            <a:ext cx="763128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"/>
          <p:cNvSpPr/>
          <p:nvPr/>
        </p:nvSpPr>
        <p:spPr>
          <a:xfrm>
            <a:off x="533520" y="457200"/>
            <a:ext cx="7924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earnia web-based system provides information about the strengths and weaknesses of individual student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potential gap in student profici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erting educators to any student who has already mastered grade level standar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Final12"/>
          <p:cNvPicPr/>
          <p:nvPr/>
        </p:nvPicPr>
        <p:blipFill>
          <a:blip r:embed="rId1"/>
          <a:stretch/>
        </p:blipFill>
        <p:spPr>
          <a:xfrm>
            <a:off x="304920" y="228600"/>
            <a:ext cx="7983360" cy="582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2 – Remedial Progr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s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Do the Math/Marilyn Bur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ading Intervention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Multisensory  Read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evel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ferral – Students who have been experiencing difficulty with acquiring grade level skills will be monitored through the I&amp;RS process.  Students who continue to experience difficulty acquiring grade level skills after participating in a remedial math and/or reading program, would be recommended for the referral process by the I&amp;RS tea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ggested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1: Octo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results used to set learning goal for Decembe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 Students who achieve goal should set new, higher level goal.  Students who do not achieve goal should be screened for level 2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2:  December 10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– February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ebruary-Take Learnia form 2.  Students who have not demonstrated progress will proceed to level 3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evel 3:  February 18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-Student intervention data shared with I&amp;RS for referral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4T12:49:07Z</dcterms:created>
  <dc:creator>Sparta</dc:creator>
  <dc:description/>
  <dc:language>en-US</dc:language>
  <cp:lastModifiedBy>Sparta</cp:lastModifiedBy>
  <dcterms:modified xsi:type="dcterms:W3CDTF">2008-09-09T15:40:54Z</dcterms:modified>
  <cp:revision>35</cp:revision>
  <dc:subject/>
  <dc:title>Formative Assessment to Identify Student Needs</dc:title>
</cp:coreProperties>
</file>