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ECD-D5B1-46A3-93F5-06EA0348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F73-E302-4229-B95F-661BDB17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D82-5A09-4113-9BBF-020D28DB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CBF-4CAA-4636-B192-D4666860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AF5-46AA-437D-9161-FFC2426B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95D-98F0-4682-AC26-92B5F49D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9B6-2DE6-4019-AE67-CD4B3E6C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3E9-E4F7-47D3-A7C3-19286E5D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493-EF00-4A88-9B3F-0C5B5C66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309-8CFD-4CAF-8E84-202638C4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410-D57E-42EF-A73C-C25039F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694-13B0-41CC-B9D7-989545C2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5204-56BE-42DC-9A70-1A43DB6FE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Student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sing appropriate intervention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medial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fer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a Trai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C @ Mohawk Aven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3 teachers- 8:30 to 11:3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Grade 4 teachers,12:30 to 3: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5 teachers-9:00 to noon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Grade 6,7,8 (math &amp; LAL teach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) 1:00-4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8:30-noon, Learnia Lead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9 – Oc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 Test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arn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mative assessment system empowers educators with periodic information (Oct/Feb)on the progress of students toward acquiring the skills and knowledge that will be assessed on the NJ AS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D95A-D95B-4487-B2A9-CE479B790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 – 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a Supports Your Instruction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data that can be integrated into the instructional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ing for differentiated planning and i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student progress toward proficiency on NJ CC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nal3"/>
          <p:cNvPicPr/>
          <p:nvPr/>
        </p:nvPicPr>
        <p:blipFill>
          <a:blip r:embed="rId1"/>
          <a:stretch/>
        </p:blipFill>
        <p:spPr>
          <a:xfrm>
            <a:off x="496800" y="114480"/>
            <a:ext cx="763128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33520" y="45720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arnia web-based system provides information about the strengths and weaknesses of individual stu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potential gap in student pro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student who has already mastered grade leve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inal12"/>
          <p:cNvPicPr/>
          <p:nvPr/>
        </p:nvPicPr>
        <p:blipFill>
          <a:blip r:embed="rId1"/>
          <a:stretch/>
        </p:blipFill>
        <p:spPr>
          <a:xfrm>
            <a:off x="304920" y="228600"/>
            <a:ext cx="798336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2 – Remedial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s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o the Math/Marilyn Bur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sensory 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al – Students who have been experiencing difficulty with acquiring grade level skills will be monitored through the I&amp;RS process.  Students who continue to experience difficulty acquiring grade level skills after participating in a remedial math and/or reading program, would be recommended for the referral process by the I&amp;RS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ed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1: Octo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sults used to set learning goal for Decembe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Students who achieve goal should set new, higher level goal.  Students who do not achieve goal should be screened for leve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2:  Decem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Februar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uary-Take Learnia form 2.  Students who have not demonstrated progress will proceed to level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3:  February 1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Student intervention data shared with I&amp;RS for refer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2:49:07Z</dcterms:created>
  <dc:creator>Sparta</dc:creator>
  <dc:description/>
  <dc:language>en-US</dc:language>
  <cp:lastModifiedBy>Sparta</cp:lastModifiedBy>
  <dcterms:modified xsi:type="dcterms:W3CDTF">2008-09-09T15:40:54Z</dcterms:modified>
  <cp:revision>35</cp:revision>
  <dc:subject/>
  <dc:title>Formative Assessment to Identify Student Needs</dc:title>
</cp:coreProperties>
</file>