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7A2C-E704-419A-BF8F-837414BC8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16EA-5CB8-40EB-8ECE-4055786F6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BF2B-EB69-4E66-BBF4-29CB14292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D9D-F34F-49D9-99A9-D6AEA5621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70AB-473E-4645-8B4A-52578FE66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5DD-7F0E-46C2-AF5A-864917E5D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EE2DD-7C3E-4FA2-B776-85DF13C1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241A-23F5-40CD-A516-BD7D696F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E6D0-0CD4-4C27-9CB5-4ACC80DA8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B15-726C-4508-B3EA-A0F44905A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5861D-400E-4A4E-BE1D-363628F8C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B699-A52D-4363-8464-0BBF073E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03EE5-B505-48A0-9B72-A43C40A9B2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eting Student N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858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sing appropriate interventions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medial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fer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a Trai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DC @ Mohawk Aven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Grade 3 teachers- 8:30 to 11:3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Grade 4 teachers,12:30 to 3: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Grade 5 teachers-9:00 to noon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Grade 6,7,8 (math &amp; LAL teach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) 1:00-4: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8:30-noon, Learnia Lead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29 – Oc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 Test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earn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mative assessment system empowers educators with periodic information (Oct/Feb)on the progress of students toward acquiring the skills and knowledge that will be assessed on the NJ AS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DCA5F-E29F-4906-95F4-3D45B0ADE7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1 – Differentiat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a Supports Your Instruction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data that can be integrated into the instructional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ing for differentiated planning and instru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student progress toward proficiency on NJ CC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inal3"/>
          <p:cNvPicPr/>
          <p:nvPr/>
        </p:nvPicPr>
        <p:blipFill>
          <a:blip r:embed="rId1"/>
          <a:stretch/>
        </p:blipFill>
        <p:spPr>
          <a:xfrm>
            <a:off x="496800" y="114480"/>
            <a:ext cx="763128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533520" y="457200"/>
            <a:ext cx="792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arnia web-based system provides information about the strengths and weaknesses of individual stud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rting educators to any potential gap in student pro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rting educators to any student who has already mastered grade level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inal12"/>
          <p:cNvPicPr/>
          <p:nvPr/>
        </p:nvPicPr>
        <p:blipFill>
          <a:blip r:embed="rId1"/>
          <a:stretch/>
        </p:blipFill>
        <p:spPr>
          <a:xfrm>
            <a:off x="304920" y="228600"/>
            <a:ext cx="798336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2 – Remedial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s Interven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o the Math/Marilyn Bur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Interven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sensory  Re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ral – Students who have been experiencing difficulty with acquiring grade level skills will be monitored through the I&amp;RS process.  Students who continue to experience difficulty acquiring grade level skills after participating in a remedial math and/or reading program, would be recommended for the referral process by the I&amp;RS t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gested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1: October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sults used to set learning goal for December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 Students who achieve goal should set new, higher level goal.  Students who do not achieve goal should be screened for level 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2:  December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February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bruary-Take Learnia form 2.  Students who have not demonstrated progress will proceed to level 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3:  February 18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Student intervention data shared with I&amp;RS for referr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2:49:07Z</dcterms:created>
  <dc:creator>Sparta</dc:creator>
  <dc:description/>
  <dc:language>en-US</dc:language>
  <cp:lastModifiedBy>Sparta</cp:lastModifiedBy>
  <dcterms:modified xsi:type="dcterms:W3CDTF">2008-09-09T15:40:54Z</dcterms:modified>
  <cp:revision>35</cp:revision>
  <dc:subject/>
  <dc:title>Formative Assessment to Identify Student Needs</dc:title>
</cp:coreProperties>
</file>